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4128-7FD4-4406-AF40-A2A2FBE5D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AD20-37A7-4142-A429-FECDC6A3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164A-F333-4EE8-9CBA-C6CDDE0E7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3313-46E8-4F2B-87EF-22D04F444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C603-E28A-4352-A205-47F8BABBA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5444-06C4-4CFF-BE44-65DFA1D2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4A2E-A6AF-44F7-8FAA-CD54E434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FADD-A970-4CBD-B8D4-899342F8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7C820-AB20-4289-99A4-5F0D9B78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4CE2-FBA5-4172-842C-391CFC07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A175-94DB-4534-BE0A-736EB848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2E19-7D6E-46AB-8AF6-F1D7B54D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053C-E520-431C-961E-025FB388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20B43-8BAE-4FC4-86F8-69F5447D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D1F9-3A3B-4B79-83C7-F09DF53E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D73F-4CE8-460B-BEA6-3AEF4BBE8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662D-D349-4CD1-BCF8-D6FA8E20F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115EC-F811-4C5D-B442-2D4F9772C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EFF6D-BF5A-4AA6-BF7E-71E1DFD3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AB1D1-16D3-49BF-97E6-A3E9A94B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98D89-1812-46C4-9198-2EEFF8D4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258FF-2C3F-468E-8729-FAD681A3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DCFF-454E-43C5-8137-9F09277E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FC5A6-A321-4782-B603-37DF50CB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2FFE6-832B-4B8F-A167-807A69A9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3744D-B7CF-443C-9B7B-8F5838C6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E1A08-BA91-46F9-B8F9-22C5A88C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8F79E-B18A-47B6-8049-C427C96B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908DD-969D-4016-A4DF-ABDA74772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31BB7-F369-490F-96D4-5341ACDBD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E4D22-E1A2-4821-A5BA-FF170E6B7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C5C06-CBF7-4B48-A642-03165BEA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E50FC-E3CB-48F1-9130-58C16BEE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3529-301B-4E18-869A-1FDD3AA0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9F9F0-68F3-44BE-9B7C-F1201DEF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11FA7-A2B6-40E4-959A-740F8DE6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71381-58DB-4D87-946D-7165A2E2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CB0EC-78CD-4CF2-BDCA-298071D6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8B083-C318-445E-AE6E-D66FCD25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7775E-BFBD-4CB9-8434-27C6FB0B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4BEA6-A5EB-4D32-AC4A-9A0A98BC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9AF7F-1FF6-4880-A7A1-47D95C061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F0425-B8FA-4F8C-BFC6-C0C11E69A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8DB1A-A871-4968-8DEF-0D50C50E2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BA65-1FFE-4983-8EAB-86741575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D0DD7-79C9-42E5-8EE6-463B5FC6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54BE7-B7D1-4A89-BCDE-F523229D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CE2B5-6708-4D4D-A207-CCE1A0DC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947B5-E52B-40A0-84DA-C5360F6E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5E534-A608-418F-8796-698FD2C2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D59A8-87D9-44C5-91C0-56DCBF7C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DFADE-1B7C-45AA-BAA5-F8DD9C78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D86D4-91E3-477E-A918-B4BCBAD7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1B672-5049-4BB5-AEFB-5FD13DCF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B7F4F-2907-40A8-B38C-374D61376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5CA6-31A7-4C01-B4B5-E29AB3DF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872FD-D04E-4F5D-AF4D-99F08FB1C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C0BA8-E2ED-4971-B814-ECC5BE144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AA052-636F-41C4-AC96-0459CBE3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5B20D-7E52-458C-9B2B-0A1D8DB2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FB2F1-1559-42C7-9313-BD884856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03AB4-0F77-4BCB-9074-B7441C55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6766A-72A5-4523-95FA-51950E71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7F0D9-0CE7-484F-890D-D2066243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6B4B2-D050-4866-9DBA-EA58E056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2A4E9-0488-4B11-9B81-77A71602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EBBB-C1FB-4362-98F7-E8328734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86484-1095-4968-97D4-5ABDE679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DFD2B-A7EA-4AB6-BC26-60789A2E7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26B50-AB94-4105-8B55-EFE46E709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F61B-6DB3-4138-8F71-5723D8C0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C24F-8947-4A9C-AE54-872ABC43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8 - Ορθογώνιο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7 - Στρογγυλεμένο ορθογώνιο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4410-2632-44C6-901C-352C14363F36}" type="slidenum">
              <a:rPr b="0" lang="el-G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9 - Ορθογώνιο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10 - Στρογγυλεμένο ορθογώνιο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11 - Ορθογώνιο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12 - Ορθογώνιο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14 - Ορθογώνιο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474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AA6C-191B-4EB8-8459-568DB4E21017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9 - Ορθογώνιο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0" name="10 - Στρογγυλεμένο ορθογώνιο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10 - Στρογγυλεμένο ορθογώνιο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3" name="11 - Ορθογώνιο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12 - Ορθογώνιο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14 - Ορθογώνιο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474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3490-9F58-486A-8ED8-5E83D6A7FD8D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8 - Ορθογώνιο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7 - Στρογγυλεμένο ορθογώνιο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9 - Ορθογώνιο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10 - Στρογγυλεμένο ορθογώνιο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F58E-B190-4770-B435-4D25B1B575B3}" type="slidenum">
              <a:rPr b="0" lang="el-G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8 - Ορθογώνιο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7 - Στρογγυλεμένο ορθογώνιο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9 - Ορθογώνιο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10 - Ορθογώνιο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11 - Ορθογώνιο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474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CB3A-573F-4ADD-AD24-D188CA3AF0DE}" type="slidenum">
              <a:rPr b="0" lang="el-G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8 - Ορθογώνιο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7 - Στρογγυλεμένο ορθογώνιο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865200" y="6315480"/>
            <a:ext cx="150876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77EF-2659-4AE5-8E1F-02FD2A0BEB4C}" type="slidenum">
              <a:rPr b="0" lang="el-G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8760" y="1785960"/>
            <a:ext cx="8501040" cy="9698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62329"/>
                </a:solidFill>
                <a:latin typeface="Cambria"/>
              </a:rPr>
              <a:t>GRAFFITI, </a:t>
            </a:r>
            <a:r>
              <a:rPr b="0" lang="el-GR" sz="4000" spc="-1" strike="noStrike">
                <a:solidFill>
                  <a:srgbClr val="062329"/>
                </a:solidFill>
                <a:latin typeface="Cambria"/>
              </a:rPr>
              <a:t>Η ΤΕΧΝΗ ΤΟΥ ΔΡΟΜΟΥ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62329"/>
                </a:solidFill>
                <a:latin typeface="Cambria"/>
              </a:rPr>
              <a:t>Μορφωτικό επίπεδο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graphicFrame>
        <p:nvGraphicFramePr>
          <p:cNvPr id="294" name="Object 3"/>
          <p:cNvGraphicFramePr/>
          <p:nvPr/>
        </p:nvGraphicFramePr>
        <p:xfrm>
          <a:off x="1434960" y="1569960"/>
          <a:ext cx="6764400" cy="4307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4960" y="1569960"/>
                    <a:ext cx="6764400" cy="430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3333ff"/>
                </a:solidFill>
                <a:latin typeface="Calibri"/>
              </a:rPr>
              <a:t>Ηλικιακή ομάδα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graphicFrame>
        <p:nvGraphicFramePr>
          <p:cNvPr id="297" name="Object 3"/>
          <p:cNvGraphicFramePr/>
          <p:nvPr/>
        </p:nvGraphicFramePr>
        <p:xfrm>
          <a:off x="1347840" y="2314440"/>
          <a:ext cx="6905520" cy="283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7840" y="2314440"/>
                    <a:ext cx="6905520" cy="28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3333ff"/>
                </a:solidFill>
                <a:latin typeface="Calibri"/>
              </a:rPr>
              <a:t>Είναι νόμιμο;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graphicFrame>
        <p:nvGraphicFramePr>
          <p:cNvPr id="300" name="Object 3"/>
          <p:cNvGraphicFramePr/>
          <p:nvPr/>
        </p:nvGraphicFramePr>
        <p:xfrm>
          <a:off x="1566720" y="1719360"/>
          <a:ext cx="6467760" cy="402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6720" y="1719360"/>
                    <a:ext cx="646776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3333ff"/>
                </a:solidFill>
                <a:latin typeface="Calibri"/>
              </a:rPr>
              <a:t>Γνωρίζετε τι είναι </a:t>
            </a:r>
            <a:r>
              <a:rPr b="0" lang="en-US" sz="4000" spc="-1" strike="noStrike">
                <a:solidFill>
                  <a:srgbClr val="3333ff"/>
                </a:solidFill>
                <a:latin typeface="Calibri"/>
              </a:rPr>
              <a:t>graffiti</a:t>
            </a:r>
            <a:r>
              <a:rPr b="0" lang="el-GR" sz="4000" spc="-1" strike="noStrike">
                <a:solidFill>
                  <a:srgbClr val="3333ff"/>
                </a:solidFill>
                <a:latin typeface="Calibri"/>
              </a:rPr>
              <a:t>;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graphicFrame>
        <p:nvGraphicFramePr>
          <p:cNvPr id="303" name="Object 7"/>
          <p:cNvGraphicFramePr/>
          <p:nvPr/>
        </p:nvGraphicFramePr>
        <p:xfrm>
          <a:off x="457200" y="1434960"/>
          <a:ext cx="8197920" cy="388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34960"/>
                    <a:ext cx="8197920" cy="38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3333ff"/>
                </a:solidFill>
                <a:latin typeface="Calibri"/>
              </a:rPr>
              <a:t>Ομορφαίνει το αστικό τοπίο;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graphicFrame>
        <p:nvGraphicFramePr>
          <p:cNvPr id="306" name="Object 3"/>
          <p:cNvGraphicFramePr/>
          <p:nvPr/>
        </p:nvGraphicFramePr>
        <p:xfrm>
          <a:off x="1295280" y="1633680"/>
          <a:ext cx="7010640" cy="420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633680"/>
                    <a:ext cx="7010640" cy="42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3333ff"/>
                </a:solidFill>
                <a:latin typeface="Calibri"/>
              </a:rPr>
              <a:t>Είναι μορφή έκφρασης συναισθημάτων των δημιουργών;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graphicFrame>
        <p:nvGraphicFramePr>
          <p:cNvPr id="309" name="Object 3"/>
          <p:cNvGraphicFramePr/>
          <p:nvPr/>
        </p:nvGraphicFramePr>
        <p:xfrm>
          <a:off x="1114560" y="1957320"/>
          <a:ext cx="7372080" cy="35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1957320"/>
                    <a:ext cx="737208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3333ff"/>
                </a:solidFill>
                <a:latin typeface="Calibri"/>
              </a:rPr>
              <a:t>Θα επιθυμούσα να είχα ένα σε έναν άδειο τοίχο του σπιτιού μου;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graphicFrame>
        <p:nvGraphicFramePr>
          <p:cNvPr id="312" name="Object 3"/>
          <p:cNvGraphicFramePr/>
          <p:nvPr/>
        </p:nvGraphicFramePr>
        <p:xfrm>
          <a:off x="1405080" y="1843200"/>
          <a:ext cx="6791040" cy="378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5080" y="1843200"/>
                    <a:ext cx="6791040" cy="37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3333ff"/>
                </a:solidFill>
                <a:latin typeface="Calibri"/>
              </a:rPr>
              <a:t>Οι δημιουργοί του </a:t>
            </a:r>
            <a:r>
              <a:rPr b="0" lang="en-US" sz="3600" spc="-1" strike="noStrike">
                <a:solidFill>
                  <a:srgbClr val="3333ff"/>
                </a:solidFill>
                <a:latin typeface="Calibri"/>
              </a:rPr>
              <a:t>graffiti </a:t>
            </a:r>
            <a:r>
              <a:rPr b="0" lang="el-GR" sz="3600" spc="-1" strike="noStrike">
                <a:solidFill>
                  <a:srgbClr val="3333ff"/>
                </a:solidFill>
                <a:latin typeface="Calibri"/>
              </a:rPr>
              <a:t>ακολουθούν κανόνες δεοντολογίας;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graphicFrame>
        <p:nvGraphicFramePr>
          <p:cNvPr id="315" name="Object 3"/>
          <p:cNvGraphicFramePr/>
          <p:nvPr/>
        </p:nvGraphicFramePr>
        <p:xfrm>
          <a:off x="1090440" y="1957320"/>
          <a:ext cx="7420320" cy="35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0440" y="1957320"/>
                    <a:ext cx="742032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3333ff"/>
                </a:solidFill>
                <a:latin typeface="Calibri"/>
              </a:rPr>
              <a:t>Είναι βανδαλισμός;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graphicFrame>
        <p:nvGraphicFramePr>
          <p:cNvPr id="318" name="Object 3"/>
          <p:cNvGraphicFramePr/>
          <p:nvPr/>
        </p:nvGraphicFramePr>
        <p:xfrm>
          <a:off x="988920" y="1457280"/>
          <a:ext cx="6910560" cy="469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1457280"/>
                    <a:ext cx="6910560" cy="46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3333ff"/>
                </a:solidFill>
                <a:latin typeface="Calibri"/>
              </a:rPr>
              <a:t>Πρέπει να νομιμοποιηθεί;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graphicFrame>
        <p:nvGraphicFramePr>
          <p:cNvPr id="321" name="Object 3"/>
          <p:cNvGraphicFramePr/>
          <p:nvPr/>
        </p:nvGraphicFramePr>
        <p:xfrm>
          <a:off x="1231920" y="1447920"/>
          <a:ext cx="713736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1920" y="1447920"/>
                    <a:ext cx="7137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42640" y="928440"/>
            <a:ext cx="7072200" cy="7347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62329"/>
                </a:solidFill>
                <a:latin typeface="Cambria"/>
              </a:rPr>
              <a:t>Η εξελικτική πορεία της εργασίας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856800" y="2428560"/>
            <a:ext cx="790092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62329"/>
                </a:solidFill>
                <a:latin typeface="Cambria"/>
              </a:rPr>
              <a:t>Ανάλυση θέματος σε επιμέρους παραρτήματα.</a:t>
            </a:r>
            <a:r>
              <a:rPr b="0" lang="el-GR" sz="2000" spc="-1" strike="noStrike">
                <a:solidFill>
                  <a:srgbClr val="062329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62329"/>
                </a:solidFill>
                <a:latin typeface="Cambria"/>
              </a:rPr>
              <a:t>Διαχωρισμός των μαθητών σε 4 ομάδες και επιλογή θέματος για κάθε ομάδα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62329"/>
                </a:solidFill>
                <a:latin typeface="Cambria"/>
              </a:rPr>
              <a:t>Αναζήτηση και αξιολόγηση αξιόπιστων και μη πηγών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62329"/>
                </a:solidFill>
                <a:latin typeface="Cambria"/>
              </a:rPr>
              <a:t>Συγκέντρωση πληροφοριών, επεξεργασία και καταγραφή τους σε κείμενο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229600" cy="7765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62329"/>
                </a:solidFill>
                <a:latin typeface="Cambria"/>
              </a:rPr>
              <a:t>Κατανομή των ομάδων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62329"/>
                </a:solidFill>
                <a:latin typeface="Cambria"/>
              </a:rPr>
              <a:t>Ομάδα 1</a:t>
            </a:r>
            <a:r>
              <a:rPr b="0" lang="el-GR" sz="2200" spc="-1" strike="noStrike" baseline="30000">
                <a:solidFill>
                  <a:srgbClr val="062329"/>
                </a:solidFill>
                <a:latin typeface="Cambria"/>
              </a:rPr>
              <a:t>η</a:t>
            </a:r>
            <a:r>
              <a:rPr b="0" lang="el-GR" sz="2200" spc="-1" strike="noStrike">
                <a:solidFill>
                  <a:srgbClr val="062329"/>
                </a:solidFill>
                <a:latin typeface="Cambria"/>
              </a:rPr>
              <a:t>: Ιστορία του </a:t>
            </a:r>
            <a:r>
              <a:rPr b="0" lang="en-US" sz="2200" spc="-1" strike="noStrike">
                <a:solidFill>
                  <a:srgbClr val="062329"/>
                </a:solidFill>
                <a:latin typeface="Cambria"/>
              </a:rPr>
              <a:t>graffiti-</a:t>
            </a:r>
            <a:r>
              <a:rPr b="0" lang="el-GR" sz="2200" spc="-1" strike="noStrike">
                <a:solidFill>
                  <a:srgbClr val="062329"/>
                </a:solidFill>
                <a:latin typeface="Cambria"/>
              </a:rPr>
              <a:t>Προέλευση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062329"/>
                </a:solidFill>
                <a:latin typeface="Cambria"/>
              </a:rPr>
              <a:t>Βαγενάς Δημήτρης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062329"/>
                </a:solidFill>
                <a:latin typeface="Cambria"/>
              </a:rPr>
              <a:t>Καριοφύλη Χαρά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062329"/>
                </a:solidFill>
                <a:latin typeface="Cambria"/>
              </a:rPr>
              <a:t>Λούκας Φίλιππος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062329"/>
                </a:solidFill>
                <a:latin typeface="Cambria"/>
              </a:rPr>
              <a:t>Νότσικα Χρύσα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062329"/>
                </a:solidFill>
                <a:latin typeface="Cambria"/>
              </a:rPr>
              <a:t>Σιαμαλέκα Ευτυχία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62329"/>
                </a:solidFill>
                <a:latin typeface="Cambria"/>
              </a:rPr>
              <a:t>Ομάδα 2</a:t>
            </a:r>
            <a:r>
              <a:rPr b="0" lang="el-GR" sz="2400" spc="-1" strike="noStrike" baseline="30000">
                <a:solidFill>
                  <a:srgbClr val="062329"/>
                </a:solidFill>
                <a:latin typeface="Cambria"/>
              </a:rPr>
              <a:t>η</a:t>
            </a:r>
            <a:r>
              <a:rPr b="0" lang="el-GR" sz="2400" spc="-1" strike="noStrike">
                <a:solidFill>
                  <a:srgbClr val="062329"/>
                </a:solidFill>
                <a:latin typeface="Cambria"/>
              </a:rPr>
              <a:t>: Καλλιτέχνες του </a:t>
            </a:r>
            <a:r>
              <a:rPr b="0" lang="en-US" sz="2400" spc="-1" strike="noStrike">
                <a:solidFill>
                  <a:srgbClr val="062329"/>
                </a:solidFill>
                <a:latin typeface="Cambria"/>
              </a:rPr>
              <a:t>graffiti-</a:t>
            </a:r>
            <a:r>
              <a:rPr b="0" lang="el-GR" sz="2400" spc="-1" strike="noStrike">
                <a:solidFill>
                  <a:srgbClr val="062329"/>
                </a:solidFill>
                <a:latin typeface="Cambria"/>
              </a:rPr>
              <a:t>Τέχνη ή Βανδαλισμός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062329"/>
                </a:solidFill>
                <a:latin typeface="Cambria"/>
              </a:rPr>
              <a:t>Δεμιρτζόγλου Ιωάννα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062329"/>
                </a:solidFill>
                <a:latin typeface="Cambria"/>
              </a:rPr>
              <a:t>Καρβέλης Νίκος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062329"/>
                </a:solidFill>
                <a:latin typeface="Cambria"/>
              </a:rPr>
              <a:t>Κασσελούρη Ιωάννα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062329"/>
                </a:solidFill>
                <a:latin typeface="Cambria"/>
              </a:rPr>
              <a:t>Κοσκινάς Κώστας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062329"/>
                </a:solidFill>
                <a:latin typeface="Cambria"/>
              </a:rPr>
              <a:t>Μπάλλας Δημήτρης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62329"/>
                </a:solidFill>
                <a:latin typeface="Cambria"/>
              </a:rPr>
              <a:t>Ομάδα 3</a:t>
            </a:r>
            <a:r>
              <a:rPr b="0" lang="el-GR" sz="1700" spc="-1" strike="noStrike" baseline="30000">
                <a:solidFill>
                  <a:srgbClr val="062329"/>
                </a:solidFill>
                <a:latin typeface="Cambria"/>
              </a:rPr>
              <a:t>η</a:t>
            </a:r>
            <a:r>
              <a:rPr b="0" lang="el-GR" sz="1700" spc="-1" strike="noStrike">
                <a:solidFill>
                  <a:srgbClr val="062329"/>
                </a:solidFill>
                <a:latin typeface="Cambria"/>
              </a:rPr>
              <a:t>: Οικονομία &amp; </a:t>
            </a:r>
            <a:r>
              <a:rPr b="0" lang="en-US" sz="1700" spc="-1" strike="noStrike">
                <a:solidFill>
                  <a:srgbClr val="062329"/>
                </a:solidFill>
                <a:latin typeface="Cambria"/>
              </a:rPr>
              <a:t>graffiti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100" spc="-1" strike="noStrike">
                <a:solidFill>
                  <a:srgbClr val="062329"/>
                </a:solidFill>
                <a:latin typeface="Cambria"/>
              </a:rPr>
              <a:t>Βασδέκη Γεωργία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100" spc="-1" strike="noStrike">
                <a:solidFill>
                  <a:srgbClr val="062329"/>
                </a:solidFill>
                <a:latin typeface="Cambria"/>
              </a:rPr>
              <a:t>Σήτα Βασιλική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100" spc="-1" strike="noStrike">
                <a:solidFill>
                  <a:srgbClr val="062329"/>
                </a:solidFill>
                <a:latin typeface="Cambria"/>
              </a:rPr>
              <a:t>Συμεωνίδης Άγγελος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62329"/>
                </a:solidFill>
                <a:latin typeface="Cambria"/>
              </a:rPr>
              <a:t>Ομάδα 4</a:t>
            </a:r>
            <a:r>
              <a:rPr b="0" lang="el-GR" sz="1700" spc="-1" strike="noStrike" baseline="30000">
                <a:solidFill>
                  <a:srgbClr val="062329"/>
                </a:solidFill>
                <a:latin typeface="Cambria"/>
              </a:rPr>
              <a:t>η</a:t>
            </a:r>
            <a:r>
              <a:rPr b="0" lang="el-GR" sz="1700" spc="-1" strike="noStrike">
                <a:solidFill>
                  <a:srgbClr val="062329"/>
                </a:solidFill>
                <a:latin typeface="Cambria"/>
              </a:rPr>
              <a:t>: Θεματολογία-Είδη-4 στοιχεία-Νομιμότητα-Νομοθεσία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100" spc="-1" strike="noStrike">
                <a:solidFill>
                  <a:srgbClr val="062329"/>
                </a:solidFill>
                <a:latin typeface="Cambria"/>
              </a:rPr>
              <a:t>Μέρμηγκα Φωτεινή 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100" spc="-1" strike="noStrike">
                <a:solidFill>
                  <a:srgbClr val="062329"/>
                </a:solidFill>
                <a:latin typeface="Cambria"/>
              </a:rPr>
              <a:t>Μπότσολος Χρήστος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100" spc="-1" strike="noStrike">
                <a:solidFill>
                  <a:srgbClr val="062329"/>
                </a:solidFill>
                <a:latin typeface="Cambria"/>
              </a:rPr>
              <a:t>Πάνου Χρύσα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100" spc="-1" strike="noStrike">
                <a:solidFill>
                  <a:srgbClr val="062329"/>
                </a:solidFill>
                <a:latin typeface="Cambria"/>
              </a:rPr>
              <a:t>Παπαδημητρίου Κώστας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100" spc="-1" strike="noStrike">
                <a:solidFill>
                  <a:srgbClr val="062329"/>
                </a:solidFill>
                <a:latin typeface="Cambria"/>
              </a:rPr>
              <a:t>Πρίντζης Παναγιώτης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464646"/>
                </a:solidFill>
                <a:latin typeface="Cambria"/>
              </a:rPr>
              <a:t>4 στοιχεια(χιπ-χοπ)</a:t>
            </a:r>
            <a:r>
              <a:rPr b="0" lang="el-GR" sz="3600" spc="-1" strike="noStrike">
                <a:solidFill>
                  <a:srgbClr val="464646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reak Dance(</a:t>
            </a:r>
            <a:r>
              <a:rPr b="0" lang="el-GR" sz="2400" spc="-1" strike="noStrike">
                <a:solidFill>
                  <a:srgbClr val="000000"/>
                </a:solidFill>
                <a:latin typeface="Cambria"/>
              </a:rPr>
              <a:t>χορός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mbria"/>
              </a:rPr>
              <a:t>RAP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mbria"/>
              </a:rPr>
              <a:t>Djing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raffiti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165920" y="32457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5716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 u="sng">
                <a:solidFill>
                  <a:srgbClr val="464646"/>
                </a:solidFill>
                <a:uFillTx/>
                <a:latin typeface="Cambria"/>
              </a:rPr>
              <a:t>Νομοθεσία - νομιμότητα - ''τέχνη ή βανδαλισμός;''</a:t>
            </a:r>
            <a:r>
              <a:rPr b="0" lang="el-GR" sz="3600" spc="-1" strike="noStrike">
                <a:solidFill>
                  <a:srgbClr val="464646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</a:t>
            </a:r>
            <a:r>
              <a:rPr b="0" lang="el-GR" sz="2400" spc="-1" strike="noStrike">
                <a:solidFill>
                  <a:srgbClr val="000000"/>
                </a:solidFill>
                <a:latin typeface="Cambria"/>
              </a:rPr>
              <a:t>α graffiti μπορεί να είναι είτε νόμιμα είτε παράνομα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mbria"/>
              </a:rPr>
              <a:t>Η επιλογή βρίσκεται καθαρά στα χέρια του καλλιτέχνη.</a:t>
            </a:r>
            <a:r>
              <a:rPr b="0" lang="el-GR" sz="2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464646"/>
                </a:solidFill>
                <a:latin typeface="Cambria"/>
              </a:rPr>
              <a:t>Το </a:t>
            </a:r>
            <a:r>
              <a:rPr b="0" lang="en-US" sz="3600" spc="-1" strike="noStrike">
                <a:solidFill>
                  <a:srgbClr val="464646"/>
                </a:solidFill>
                <a:latin typeface="Cambria"/>
              </a:rPr>
              <a:t>graffiti</a:t>
            </a:r>
            <a:r>
              <a:rPr b="0" lang="el-GR" sz="3600" spc="-1" strike="noStrike">
                <a:solidFill>
                  <a:srgbClr val="464646"/>
                </a:solidFill>
                <a:latin typeface="Cambria"/>
              </a:rPr>
              <a:t> στην Ελλάδα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E</a:t>
            </a:r>
            <a:r>
              <a:rPr b="0" lang="el-GR" sz="2400" spc="-1" strike="noStrike">
                <a:solidFill>
                  <a:srgbClr val="000000"/>
                </a:solidFill>
                <a:latin typeface="Cambria"/>
              </a:rPr>
              <a:t>μφανίστηκε γύρω στο 1986 αρχικά με πολύχρωμα σχέδια και μηνύματα πάνω στα βαγόνια του ηλεκτρικού και των τρένων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mbria"/>
              </a:rPr>
              <a:t>Δεν αποτελεί έκφραση του περιθωρίου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mbria"/>
              </a:rPr>
              <a:t>Ακριβά σπρέϋ            ακριβό χόμπι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3" name="5 - Ραβδωτό δεξιό βέλος"/>
          <p:cNvSpPr/>
          <p:nvPr/>
        </p:nvSpPr>
        <p:spPr>
          <a:xfrm>
            <a:off x="3214800" y="3214800"/>
            <a:ext cx="571320" cy="198360"/>
          </a:xfrm>
          <a:custGeom>
            <a:avLst/>
            <a:gdLst>
              <a:gd name="textAreaLeft" fmla="*/ 30960 w 571320"/>
              <a:gd name="textAreaRight" fmla="*/ 522000 w 571320"/>
              <a:gd name="textAreaTop" fmla="*/ 49320 h 198360"/>
              <a:gd name="textAreaBottom" fmla="*/ 149040 h 198360"/>
            </a:gdLst>
            <a:ahLst/>
            <a:rect l="textAreaLeft" t="textAreaTop" r="textAreaRight" b="textAreaBottom"/>
            <a:pathLst>
              <a:path w="571500" h="198437">
                <a:moveTo>
                  <a:pt x="0" y="49609"/>
                </a:moveTo>
                <a:lnTo>
                  <a:pt x="6201" y="49609"/>
                </a:lnTo>
                <a:lnTo>
                  <a:pt x="6201" y="148828"/>
                </a:lnTo>
                <a:lnTo>
                  <a:pt x="0" y="148828"/>
                </a:lnTo>
                <a:close/>
                <a:moveTo>
                  <a:pt x="12402" y="49609"/>
                </a:moveTo>
                <a:lnTo>
                  <a:pt x="24805" y="49609"/>
                </a:lnTo>
                <a:lnTo>
                  <a:pt x="24805" y="148828"/>
                </a:lnTo>
                <a:lnTo>
                  <a:pt x="12402" y="148828"/>
                </a:lnTo>
                <a:close/>
                <a:moveTo>
                  <a:pt x="31006" y="49609"/>
                </a:moveTo>
                <a:lnTo>
                  <a:pt x="472282" y="49609"/>
                </a:lnTo>
                <a:lnTo>
                  <a:pt x="472282" y="0"/>
                </a:lnTo>
                <a:lnTo>
                  <a:pt x="571500" y="99219"/>
                </a:lnTo>
                <a:lnTo>
                  <a:pt x="472282" y="198437"/>
                </a:lnTo>
                <a:lnTo>
                  <a:pt x="472282" y="148828"/>
                </a:lnTo>
                <a:lnTo>
                  <a:pt x="31006" y="148828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0040" y="24156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l-GR" sz="3600" spc="-1" strike="noStrike" u="sng">
              <a:solidFill>
                <a:srgbClr val="3333ff"/>
              </a:solidFill>
              <a:uFillTx/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571760"/>
            <a:ext cx="822960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62329"/>
                </a:solidFill>
                <a:latin typeface="Cambria"/>
              </a:rPr>
              <a:t>Συγκέντρωση φωτογραφικού υλικού από τοπικές δημιουργίες καλλιτεχνών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62329"/>
                </a:solidFill>
                <a:latin typeface="Cambria"/>
              </a:rPr>
              <a:t>Λήψη συνέντευξης από καλλιτέχνη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62329"/>
                </a:solidFill>
                <a:latin typeface="Cambria"/>
              </a:rPr>
              <a:t>Σύνταξη ερωτηματολογίων και συμπλήρωση τους από πολίτες διαφόρων ηλικιών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l-GR" sz="4000" spc="-1" strike="noStrike" u="sng">
              <a:solidFill>
                <a:srgbClr val="3333ff"/>
              </a:solidFill>
              <a:uFillTx/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62329"/>
                </a:solidFill>
                <a:latin typeface="Cambria"/>
              </a:rPr>
              <a:t>Καταγραφή αποτελεσμάτων των ερωτηματολογίων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62329"/>
                </a:solidFill>
                <a:latin typeface="Cambria"/>
              </a:rPr>
              <a:t>Δημιουργία </a:t>
            </a:r>
            <a:r>
              <a:rPr b="0" lang="en-US" sz="2400" spc="-1" strike="noStrike">
                <a:solidFill>
                  <a:srgbClr val="062329"/>
                </a:solidFill>
                <a:latin typeface="Cambria"/>
              </a:rPr>
              <a:t>graffiti </a:t>
            </a:r>
            <a:r>
              <a:rPr b="0" lang="el-GR" sz="2400" spc="-1" strike="noStrike">
                <a:solidFill>
                  <a:srgbClr val="062329"/>
                </a:solidFill>
                <a:latin typeface="Cambria"/>
              </a:rPr>
              <a:t>και βιντεοσκόπηση της διαδικασίας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62329"/>
                </a:solidFill>
                <a:latin typeface="Cambria"/>
              </a:rPr>
              <a:t>Συγκέντρωση στατιστικών από τα ερωτηματολόγια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62329"/>
                </a:solidFill>
                <a:latin typeface="Calibri"/>
              </a:rPr>
              <a:t>Έχετε δει </a:t>
            </a:r>
            <a:r>
              <a:rPr b="0" lang="en-US" sz="2800" spc="-1" strike="noStrike">
                <a:solidFill>
                  <a:srgbClr val="062329"/>
                </a:solidFill>
                <a:latin typeface="Calibri"/>
              </a:rPr>
              <a:t>graffiti </a:t>
            </a:r>
            <a:r>
              <a:rPr b="0" lang="el-GR" sz="2800" spc="-1" strike="noStrike">
                <a:solidFill>
                  <a:srgbClr val="062329"/>
                </a:solidFill>
                <a:latin typeface="Calibri"/>
              </a:rPr>
              <a:t>στην πόλη μας;</a:t>
            </a:r>
            <a:endParaRPr b="0" lang="en-US" sz="2800" spc="-1" strike="noStrike">
              <a:solidFill>
                <a:srgbClr val="464646"/>
              </a:solidFill>
              <a:latin typeface="Calibri"/>
            </a:endParaRPr>
          </a:p>
        </p:txBody>
      </p:sp>
      <p:pic>
        <p:nvPicPr>
          <p:cNvPr id="289" name="Picture 8" descr=""/>
          <p:cNvPicPr/>
          <p:nvPr/>
        </p:nvPicPr>
        <p:blipFill>
          <a:blip r:embed="rId1"/>
          <a:stretch/>
        </p:blipFill>
        <p:spPr>
          <a:xfrm>
            <a:off x="5027760" y="1600200"/>
            <a:ext cx="3279600" cy="21891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1" descr=""/>
          <p:cNvPicPr/>
          <p:nvPr/>
        </p:nvPicPr>
        <p:blipFill>
          <a:blip r:embed="rId2"/>
          <a:stretch/>
        </p:blipFill>
        <p:spPr>
          <a:xfrm>
            <a:off x="836640" y="3938760"/>
            <a:ext cx="3281400" cy="21920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92" name="Chart 6" descr=""/>
          <p:cNvPicPr/>
          <p:nvPr/>
        </p:nvPicPr>
        <p:blipFill>
          <a:blip r:embed="rId3"/>
          <a:stretch/>
        </p:blipFill>
        <p:spPr>
          <a:xfrm>
            <a:off x="-1079640" y="-219240"/>
            <a:ext cx="9875880" cy="708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5T11:07:22Z</dcterms:created>
  <dc:creator>user03</dc:creator>
  <dc:description/>
  <dc:language>en-US</dc:language>
  <cp:lastModifiedBy>intra</cp:lastModifiedBy>
  <dcterms:modified xsi:type="dcterms:W3CDTF">2013-01-21T19:37:32Z</dcterms:modified>
  <cp:revision>22</cp:revision>
  <dc:subject/>
  <dc:title>52</dc:title>
</cp:coreProperties>
</file>